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E27-4E75-4EB6-88C2-EDCF2794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687-F81A-4426-B8F1-12CD6B6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3D3-E4A9-4E4F-ADAA-E7509CED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829-B2EA-4B27-990D-FDC2A775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102-8CAB-44FE-9355-5FC6B0D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9A8-0432-4C88-B29B-EE0B1F4F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80C-86E8-468C-B4DC-5D366556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D1F-061F-416C-A3F7-7F39DB4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DAF-610B-411A-93BA-EDCAEAD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9B0-D3B4-43E5-B5B4-5C39266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3B6-7108-4778-9880-0AA2F684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A9E-C47C-4116-9122-50FB7D7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CE7B-6984-4E4F-B82B-14CC4D9B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hyperlink" Target="http://www.google.co.uk/imgres?imgurl=http://privatewww.essex.ac.uk/~sjs/france_flag.png&amp;imgrefurl=http://privatewww.essex.ac.uk/~sjs/&amp;h=533&amp;w=800&amp;sz=2&amp;tbnid=gXlsB2M65uEJ::&amp;tbnh=95&amp;tbnw=143&amp;prev=/images%3Fq%3DFrench%2Bflag&amp;hl=en-GB&amp;usg=__zVeubuUv8BU_eb5b729LD6HVqqo=&amp;sa=X&amp;oi=image_result&amp;resnum=3&amp;ct=image&amp;cd=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042920" y="494172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1270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042920" y="4870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042920" y="5086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http://privatewww.essex.ac.uk/~sjs/"/>
          <p:cNvPicPr/>
          <p:nvPr/>
        </p:nvPicPr>
        <p:blipFill>
          <a:blip r:embed="rId12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476280"/>
          <a:ext cx="6095880" cy="55339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: all nationalities use lower case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la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124000" y="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as na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6093000"/>
            <a:ext cx="763272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’ve written the Spanish AND the English down, use a dictionary to find other European nationalities and add them to you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basic countr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13 important European national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spot the missing national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practise spelling the national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use dictionaries to find other key nationaliti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ionalida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042920" y="501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9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263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429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4365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522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907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i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8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37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653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89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s p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950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http://privatewww.essex.ac.uk/~sjs/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33192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42920" y="2131920"/>
            <a:ext cx="1524240" cy="86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042920" y="313992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042920" y="39322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042920" y="479736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privatewww.essex.ac.uk/~sjs/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9529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42920" y="5086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42920" y="508644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524240" cy="86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152424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042920" y="4941720"/>
            <a:ext cx="152424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125748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443640" y="1773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443640" y="270828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6588000" y="3645000"/>
            <a:ext cx="1295640" cy="79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6443640" y="5445000"/>
            <a:ext cx="1295280" cy="79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03640" y="1916280"/>
            <a:ext cx="273672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Qué fal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http://privatewww.essex.ac.uk/~sjs/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5805360"/>
            <a:ext cx="1513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7:42:44Z</dcterms:created>
  <dc:creator>Owner1</dc:creator>
  <dc:description/>
  <dc:language>en-US</dc:language>
  <cp:lastModifiedBy>Owner1</cp:lastModifiedBy>
  <dcterms:modified xsi:type="dcterms:W3CDTF">2008-10-27T18:03:29Z</dcterms:modified>
  <cp:revision>2</cp:revision>
  <dc:subject/>
  <dc:title>Slide 1</dc:title>
</cp:coreProperties>
</file>